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0887-D9C9-4EA3-AD10-205D08838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raditional architecture, not like PowerVR or Talis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resolution in the monster configuration is 2048x1536 with true color and 32-bit IEEE floating point depth buff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A85-6C2F-4FF4-BE9C-C6494135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7D9-D088-458A-8E8C-912E75B8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48A-2618-4918-B5E6-D181B085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43A-C6C8-4F76-8D49-DDFC63E5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7D6-E25C-4B1B-9F43-F9918986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F5B-1F1F-42C4-A0A5-7DF11749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24A-C831-4D53-BCF4-BE5CD964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DCB-3087-46C2-BC1E-2E50E536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CCB-9670-4F26-BD33-D6F1ECF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F70-7F71-4BB4-8F85-2D6A724F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2E7-3F0C-402A-BD8B-E8D36582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064-BBAB-4031-BB0F-E14D8A9F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Bitboys 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i Nordl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Archit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boys O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nord@bitboys.f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6E3-39C4-41C1-A125-47FA8DB4EAB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xel pipe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523880"/>
          <a:ext cx="544824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44824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729-88FE-4CA8-8D03-2E544DE492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embedded DRAM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s accelerator needs GB/s of memory bandwidth, to render at 600 MPIX/s at true color and 32-bit Z, 7.2 GB/s of memory bandwidth is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memory can no longer provide enough bandwidth for future graphics accel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-efficient - less chips on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power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size - we needed exactly 9 MB (= 72 M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organization in terms of bus width, ba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77B-0411-43EB-A2B9-C9FBA03109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Black"/>
              </a:rPr>
              <a:t>Cell-concepts: Trench versus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46240" y="941400"/>
            <a:ext cx="1227240" cy="317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383000" y="1852560"/>
          <a:ext cx="3141720" cy="4233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1852560"/>
                    <a:ext cx="314172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38280" y="3657600"/>
            <a:ext cx="495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052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365760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3657600"/>
            <a:ext cx="533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520" y="1219320"/>
            <a:ext cx="19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etitor’s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H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lock stacked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hard to add mult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2320" y="1219320"/>
            <a:ext cx="460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fineon’s trench capacitor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ideally suited for adding multi-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6668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760" y="2514600"/>
            <a:ext cx="11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L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36232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6600" y="28954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6960" y="22096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meta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20120" y="3048120"/>
            <a:ext cx="514080" cy="2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1640" y="44956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pac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4724280"/>
            <a:ext cx="174636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1116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1600200"/>
            <a:ext cx="5097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724280"/>
            <a:ext cx="3505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rench technology combined with CMP (chemical mechanical polishing) techniques gives the advantage of being able to deposit the logic metallization onto a globally planar surf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nfineon%20Logo4C%20tiff" descr=""/>
          <p:cNvPicPr/>
          <p:nvPr/>
        </p:nvPicPr>
        <p:blipFill>
          <a:blip r:embed="rId5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E6E-59BF-476C-A0C0-0B035FA7975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mbedded DRA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 Mbits (9 MB) of eD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MHz core/memory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6 GB/s memory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2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ded into four 18 Mbit modules of 3 bank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s framebuffer and Z buffer - enough for 1024x768x32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e internal buses, need lots of metal laye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362320"/>
          <a:ext cx="3809880" cy="29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3809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3CC-2C4E-4066-BB01-6358333EAC6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ultichip configur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 bus interface built into Glaze3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 cost effective multi-chip 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r is a geometry 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nster configuration is capable of 2400 MPIX/s, 10M triangles/s sustained -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8 gigatexels/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market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 desktop high-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cad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668680"/>
          <a:ext cx="3809880" cy="27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68680"/>
                    <a:ext cx="38098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21C-5C9E-4AE5-B9AF-4BAA65E22C4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led rendering ord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linear framebuffer in video memory but primitives rendered as tiles instead of scan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is divided into tiles (16x16, 32x32, 64x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 is not sufficient - trashes texture cach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four chip configuration, one chip renders 1/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t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ndering chip ignores the primitive if it doesn’t fall into one of the tiles this chip ren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split between the rendering chips - monster configuration has a 36 MB embedded F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BE3-FEE9-4240-9D09-92F6255EDA4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71080" y="1828800"/>
            <a:ext cx="170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3280" y="1828800"/>
            <a:ext cx="99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9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4584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7472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1520" y="2514600"/>
            <a:ext cx="125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eatur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0440" y="297180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1Mb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0800" y="342900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aw gate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4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0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038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2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4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326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7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322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8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108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5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108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1880" y="38098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x.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038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326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5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24760" y="3429000"/>
            <a:ext cx="180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~11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0144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3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9360" y="426708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s 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3800" y="42670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12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3296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144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9720" y="4876920"/>
            <a:ext cx="173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ax.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38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326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0108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7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80440" y="5334120"/>
            <a:ext cx="1614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emory / logic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on 15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0344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0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2.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5334120"/>
            <a:ext cx="97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4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108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8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6.4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parameters for nex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5298-C241-4E15-95D6-D06B34FF56D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mp more and more triangles through the pip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: CPU - 3D-hardware interface,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metry processors, advanced geometr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pixels and tex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ct 8 gigatexels/s in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GB/s of memory bandwidth - embedded DRAM is the only solu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features per pi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texture filtering (anisotropic for 2D on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ability (procedural tex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istic materials and surface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6B2-058E-4AEF-A0EF-7CEAA9794D0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2C9-7033-4B28-9DB2-46F1CECB80F7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new consumer-level 2D/3D-graphics accelerator c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lrate: 1200 million texels / seco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and developed by Bitboys Oy, a Finnish 3D-graphics hardware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Infineon Technologies’ 0.2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eDRAM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MB of embedded framebuffer memory, 128 MB (max) of external video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11B-7A51-4838-9AA7-D8C962AA0E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sign goa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, proven rendering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’99, Microsoft Windows, Direct3D and OpenGL compat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chip support, two- and four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additional geometry processor, also in multi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full advantage of embedded D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and efficient rendering core required, embedded DRAM in Glaze3D takes most of the available sil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7A3-2033-4834-BD60-616523D95F3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d-pixel pipeline @ 150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0 million pixels / second (dual textu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00 million texels /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5 million fully featured triangles / second (sustai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cle-accurate, bit-accurate simulator together with in-house developed PCIBuilder allows performance tuning with real-world applications (Quake III Arena, Viewper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CEA-AA34-466D-A184-85459D5CA7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ure cache: 16 KB cache for even mipmap levels and surface textures, 8 KB cache for odd mipmap levels and lightmaps. Both caches two-way set associ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coverage issue - 4-pixel horizontal blocks, expect 90% coverage with average-size triang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ke III arena - 200 FPS with all features on @ 800x600x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0 MPIX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0.000 drawn triangles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MB of textures / frame, 670 MB/s of textu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complexity of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3E5-5BD0-4F19-9B10-EE16224652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simultaneous textures with trilinear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TC texture com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scene, order independent anti-alia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bump 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DI+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caled transparent video over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flat-panel and TV-out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374-8B6E-4329-928C-DC0AAEEAA1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Glaze3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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 pin B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M logic g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0 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SDR SDRAM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and/or color buffer stored here in higher re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 128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- or 128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I and 2X/4X AGP interfaces: AGP interface supports direct AGP text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C1A-4CF3-4050-A935-E8723E7833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10280" y="304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08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aze3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71600" y="1219320"/>
          <a:ext cx="6515280" cy="48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219320"/>
                    <a:ext cx="6515280" cy="48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5A3-49CE-4482-AA3A-D694ADECA55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iangle setup en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362320" y="1676520"/>
          <a:ext cx="441936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44193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619-2679-4BBD-AE3B-66E6CEB3BA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15:57:30Z</dcterms:created>
  <dc:creator>Petri Nordlund</dc:creator>
  <dc:description/>
  <dc:language>en-US</dc:language>
  <cp:lastModifiedBy>Petri Nordlund</cp:lastModifiedBy>
  <cp:lastPrinted>1999-05-31T07:55:05Z</cp:lastPrinted>
  <dcterms:modified xsi:type="dcterms:W3CDTF">1999-07-11T14:59:00Z</dcterms:modified>
  <cp:revision>214</cp:revision>
  <dc:subject/>
  <dc:title>No Slide Title</dc:title>
</cp:coreProperties>
</file>