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AA4C-B4C2-40DE-9F06-5DBB7C2C9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-bit signed format is in the form of one signed bit, four int bits, and eight fraction bits, giving a dynamic range of +- 16.0, where a current card has a range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 show how clampling to 0-16 enhances image quality without much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iterated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bright lighting used with only one texture. Iterated diffuse color is clamped to a larger range through rampage pipe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ly bright lights turn most objects, white (wash out), almost regardless or surface color or light col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s: Surfaces/lights that are pure Red, Green or Blue. Police car lights are an example here. (Co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ent light is still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viously a purple light turns an object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ling Gary’s idea of giving away big money prizes to keep people interested in the 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image is created by traditional hardware. Overbright purple light gets clamped at 1.0, creating a non-overbright white light, causing the object to appear green instead of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n astetic point of view, Left image is the “right one”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Four lines of code. One enabling larger clamp range in hardwa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hree for changing the clamp value to 0-15.ff instead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from a top-selling movi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uter gen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d washed-out area in the background. Notice blurring of detail because of the high intensity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 Halo Demo now. Point out key features. Mentioned “exaggerated effect” to be noticable on a low-res projection moni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HALO D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g running four-pass, voodoo3, eight textures to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through each of the textures, one by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Surface Tex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Reflection map/gloss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Environment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This was shown at TI 1998 (Verify with Gar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is Fu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multiple lightmap demo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cene (not a CGI scene), shows how to use the borg effect on a more day to day sce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 pavement. Wet pavement at night is used a lot in moves: it looks a lot better than dry pa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ed diffuse light map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ss map, for moist areas. Alpha channel could indicate where puddles a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r environment map. May also need a detail map. Could be a bump env.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map, applied to puddles.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ultiple projection/ reflection maps, for all the lights at different 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eneration Video engine includes enhanced MPEG support, better Scaling, Flicker filtering, advanced deinterlaced filtering (above bob or weave), and temporal fil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running predator demo, then NPR rendering demos, while showing thi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ox G400 already does 1-level recursion, for environment bump mapping. Rampage’s much more flexible. BumpEnv mapping is a subset of recursive textur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riginal npr.z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soft shadow demo during this slide, to show what single-light source shadows can look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textures, completely independant, regardless of filtering type or number of pixel pipes, or whether AA is turned on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ors. Multiple iterators used for iterating non-colors: Normals, transform matric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ion means using output of pixel shader to modify texture address coordinates, similar to a cpu’s index addressing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ure computer is our version of a pixel sh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hilosophy: textures are multi-dimensional arrays, useful as surface data, light data,1D and 2D t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round quad operand : (A+/-B)*C+D. Can build blends, macs, other ops out of this basic fuc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ased multiplexing useful for clamping, piecewise linear functions, min/max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show off uses for the compare based multiplexing and output summing in demo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movie loop at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able Anisotropic means with enough precision and enough taps and precision to give the sharpest possible images possible, with no aliasing artifacts dur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ing type orthogonal to all other operations, number of texutres, shading modes, etc. Allows for easy integration into any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128 taps, real images show only a 50% performance drop from bilin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to trilinear, since trilinear blurs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9FC-A11F-4C3A-BE49-D0F92F8C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687-ADC3-4707-B4D1-2351CCB9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AC2-3D5B-4AA1-82C6-2580A9C5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048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480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79E-888A-45AB-ADD1-4A788EDA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EA4-1FB0-49B0-A598-30046262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8ED-5B8A-435E-9519-7D8240CA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EC6-1FD9-4D41-A31E-AB1152BC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9F0-FEDD-4460-AF85-3BB31DC2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151920"/>
            <a:ext cx="6933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853-5F02-488D-933D-BFF5C499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D6D-9D27-4BD3-AA5E-BB23FB3B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33E-2111-4C1E-B5D4-6CB310D8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5C1-D887-4066-86E5-651DF993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mersion1" descr="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112D-E092-43B4-8C8E-9EB6102D8EEE}" type="slidenum"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562720" y="655308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Proprietary and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Texturing and Shad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 Kilgariff, VP of Archite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@3dfx.co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3/9/00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Texture Computer/Pixel Shad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76440" y="1641600"/>
          <a:ext cx="756756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641600"/>
                    <a:ext cx="756756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855-DEF6-44F5-BC69-86DADA9FC9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Higher bit precision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3 bit signed colors (overbright color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duces darkening associated with multi-textur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“wash out” effect prevalent in cinema and vide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urface attenuations goes from 0 to 1.0, but light intensity can go from 0 to infinity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in scenes with sunlight or nighttime scen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Higher precision for environment bump mapping matrix multiply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ighting engine could easily be changed to clamp from 0 - 16 instead of 0-1 giving overbright iterated lighting automaticall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09B-BAB2-4B6F-85B2-D5EF087D04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Vertex Ligting: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t with White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230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1638360" cy="235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1692000" cy="2416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A4C-63F9-444D-BB40-E5378A0E826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Bright Lights- 4x bright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.0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6.0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202752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1320" y="2819520"/>
            <a:ext cx="2027160" cy="2415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390-4DFE-4902-9C11-FB979DE306B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lored Lights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urple” 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75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1692360" cy="2416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1920960" cy="2370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2D6-5288-4155-A138-11E1596342B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Quiz Ques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12189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light gets much brighter (4x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ich image does traditional HW generat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334120"/>
            <a:ext cx="7239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Follow up question: How many lines of code changed in the Lighting engine to generate the other im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1806840" cy="2468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2743200"/>
            <a:ext cx="195912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159-973D-4766-B996-EF396A8129C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Overbright Light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203-4428-444A-ACA8-C8D35DBB1CC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assive Multi-texturing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light maps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(Diffuse surface  * diffuse light) + (specular surface * specular light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pecular surface * iterated specular + (diffuse light * diffuse surface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ultiple specular maps and properties (water on pavement at night 6 textures)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projected text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possibly with its own shadow map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ise functions, other methods of combining textures to simulate physical mo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ater, fire, cloud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6F3-6A0B-4012-9D8E-6D78E126EC4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Bor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Quiz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How Many textures are used the surface of the cub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 up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t which year’s total immersion, was this demo first shown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-up Follow-up ques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at is resistanc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9EB-46E6-407F-95DA-75E7EEFBD39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Massive Multi-textur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A4C-8299-44CF-9D2F-785151C6D02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Rendering Engine (VTA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Video Engin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6M tri/sec, 800MP/sec, Single textured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ogrammable Shad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igher quality filt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-buffer based A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2 textures and Anisotropic with no performance hit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4 textures with no performance hi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calable Architecture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Integrated Bridge functionality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ull AGP Support in SLI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EF1-B1E1-4520-BF6B-8326E55BD0A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Advanced Recurs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iffuse bump , specular bump, reflective bump maps combin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bump map disturbs coordinates of a different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 scaling of recursive data to make for subtle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neven tile floor, slightly distorted glas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ombine bump maps together then recurs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ipples on water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mp maps affecting other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, 3 or 4 sets of recursions; fluids, turbulence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n-photo realistic rend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935-7D56-43D6-9473-02C21265A78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ultiple Shadow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hadow lights, Sum lights together, then modulate surfa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odified stencil buffer trick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’s Xor function, and ARGB channels to model up to four shadow source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exture chroma compare w/percentage passed used to identify when pixel is lit by light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bject ID based shadowing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hadow  map projected from light sourc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contains object ID of lit object in RGB channel.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rcentage passed to select in/ou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vanced Object ID shadowing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Projected texture: RGB contain light, Alpha Object ID of surface li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lpha channel used to  compare against Object ID, along with “never shadowing objects”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raditional chroma used to let light through or set to zero on a per-texel basi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0B5-B518-4FC9-9323-86E04E6C534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Shadow Demo 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78F-EE77-4C05-A7FC-5C4DEAC7198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iscellaneou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e Iris effect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Do all lighting /texturing in 13 bit space, then use a constant color register to scale the range based on the average intensity of the imag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t Produc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hree term (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Four term (A0*A1 + 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in/Max affec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sed in Halo Dem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F9E-CF1C-4CFD-84A4-0A9C8815FAD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combinations of up to eight textur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selection of filtering mod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-texel oper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texture computer with higher bit precis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mple address ops based on texture computer outpu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Of course, this adds “flexibility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371-3B3C-4C72-BD56-5DD5556569E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anks for the images &amp; Demo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enis Amsele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ubert Nguye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ouman Meshki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Jeff Whit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ary Taroll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F9F-9BAF-49F9-839E-2EA056FE6D57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76080" y="1295280"/>
            <a:ext cx="75675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Multitexturing: 8 textures each with different filtering: point, bilinear, trilinear, anisotropic (up to 128-tap)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Iterators: 8 ARGBSTW iterators: one per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Recursion (Address ops) : recursion in parallel or series on up to 4 textures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ny combination of 4 recursions on the 8 available textures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ecursion allows one texture to perturb the values of another textur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wo recursion mod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Before and after W divid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pplicable for bump mapping and procedural textures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isc-like address op instruction model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ubic Environment Mapp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pres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DirectX/DXT (all formats) ,FXT1 compressed textur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YUV Texture format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33F-ACA7-4A86-A984-865BEF1B3A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37160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puter (Pixel Shader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flexible math capabilit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bine unit: (a+b)*c+d feeding..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...color combine unit: (A+B)*C+D where each abcd and ABCD can be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rom any of iterator, texture, previous, registered and constant valu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anipulated independently with: x, -x, 1-x and x-0.5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ompare based multiplexing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exture and color: combine unit: (a-b)? c:d and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bine unit output summ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+G+B may feed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color combine unit: .(a+b)*c+d, alpha and/or color channel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for intensity ops, dot product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egister based combin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Sum of products, products of sum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341-7205-4C79-842A-43C59A55805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Larger color component preci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3 bits per componen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Precision maintained through alpha blender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pha Blender Logic Op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Quad pixel pipelin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pixels-per-clock single textured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/N pixels per clock for N textures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calable rendering: Up to four chips ganged together. No bridge chip required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Optimized Geometry Pipelin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Viewport Transforms and efficient host/graphics IO yield optimum performan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orks with (or without) Sage geometry co-processo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0BF-3A47-4CB6-988A-22229F3EB82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hy do we need massive multi-texturing if we have T&amp;L?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2666520"/>
            <a:ext cx="6933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 pixel light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hadow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ultiple light and surface map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odeling physical properties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10A-D360-4341-844F-921240B5E96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Each texture has totally independent programming stat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TG: Recursion Dat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Before Perspective correct divide or afte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ve data can be scaled by a power of 2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dress = Iterator + (offset &lt;&lt; n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on can be turned off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lter Contro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ipmapping contro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oint sampled, bilinear, trilinear, anisotropi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ne map of many can be anisotropic without slowing the other textur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through 128 tap filtering selectable per-texture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7C4-63F0-4492-89A8-CD4611DBFA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er-texel operations (texture chroma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hroma on value or rang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lexible RGB control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GB compares can be replaced with Alpha (3 compares)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raditional chroma (replace with black) Chroma Replace, Percentage passed mode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ful for smooth chroma-key effects, shadows, etc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2BB-D1E5-457F-B42B-E19A7FFB5F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6933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Anisotropic Filter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43434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ampage enables usable anisotropic filtering for the first time in a cost effective personal computer environ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r superior to trilinear filter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3880" y="837360"/>
            <a:ext cx="3695760" cy="3296160"/>
            <a:chOff x="1523880" y="837360"/>
            <a:chExt cx="3695760" cy="32961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523880" y="124740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669760" y="837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Trilin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837360"/>
            <a:ext cx="3695760" cy="3299400"/>
            <a:chOff x="5257800" y="837360"/>
            <a:chExt cx="3695760" cy="32994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257800" y="125064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494040" y="83736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Anisotrop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0FD-0B94-442F-BC42-1A0DAC1281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3:29:20Z</dcterms:created>
  <dc:creator>3Dfx</dc:creator>
  <dc:description/>
  <dc:language>en-US</dc:language>
  <cp:lastModifiedBy>Preferred Customer</cp:lastModifiedBy>
  <dcterms:modified xsi:type="dcterms:W3CDTF">2000-08-01T02:05:24Z</dcterms:modified>
  <cp:revision>26</cp:revision>
  <dc:subject>Rampage Overview</dc:subject>
  <dc:title>Immersion 2000</dc:title>
</cp:coreProperties>
</file>